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7C37A-C8C6-4188-9688-A7DD341B04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0D9BB-3344-4667-8266-1D7A2F776D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C688-B36B-4A2D-9637-3CEE04B5B0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3DE2-36A6-4FC3-B791-7DE6FE9BCD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4FDF8-FE8E-4EC0-9F0A-3BCD777CED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107E1-B63E-45EB-B57B-5433357A1B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C9941-54F6-4158-A24D-77CD9731BF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E4364-735C-41A3-A158-F6FB49D817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9B26E-69AA-43CD-9F83-9E57BAAB02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13B3-EF0E-44AE-9D2C-45D90D5C38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C0DF-775F-4C3C-9A7F-D3BC66D208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90C4F-37A3-4555-ABAB-7F878746B5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4FD9B-EDE7-498D-A692-B262BEA8A9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3DA6A-29A9-4B0E-A709-D4CE768738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FD09-75F8-4088-8B8E-CBE005049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160A-CE49-4097-8EB4-D015F6867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4863-8702-42C1-93B9-F5DF5A9F2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0189-5950-467C-8727-FAC37AAEB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A6C8-F5E4-4631-B558-1056A3070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6025-6215-42AE-A8B1-7C631BC19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330C-443F-4517-9170-8D8BFAD6E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E0F7-22CB-47E8-9E66-846E53BA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5B3D-96AA-44AA-9FAD-F3B678DDA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8315-96A2-4691-9F14-741879104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604E-55E8-417A-BB85-3A555E62B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FDA9-D454-43E8-BEDB-4435E16CF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402BF6-AF6B-43A1-AF84-E5C7E0BDC8B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DISTINTOS TIPOS DE ÓRGANOS SENSORI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98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6"/>
          <p:cNvSpPr/>
          <p:nvPr/>
        </p:nvSpPr>
        <p:spPr>
          <a:xfrm>
            <a:off x="900000" y="1557360"/>
            <a:ext cx="72723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tan sustancias químicas que hay en el aire, agua o ali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n lugar a dos sentidos muy relacionados: el olfato y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gus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imi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392720" cy="134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3672000" cy="25495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208" name="AutoShape 4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Picture 7" descr=""/>
            <p:cNvPicPr/>
            <p:nvPr/>
          </p:nvPicPr>
          <p:blipFill>
            <a:blip r:embed="rId3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8"/>
          <p:cNvSpPr/>
          <p:nvPr/>
        </p:nvSpPr>
        <p:spPr>
          <a:xfrm>
            <a:off x="971640" y="1419120"/>
            <a:ext cx="72723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situarse casi siempre cerca de la boca,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Artrópodos: en las ante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Vertebrados: fosas nasales y len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Quimi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84360" y="2637000"/>
            <a:ext cx="20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ten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ienen numerosos receptores de  sustancias del aire, haciendo de órganos del olfa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5724360" y="5013360"/>
            <a:ext cx="20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engu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ta sustancias del medio, sirviendo como órgano del olfato y gus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1755720" y="3657600"/>
            <a:ext cx="5544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1755720" y="3657600"/>
            <a:ext cx="1417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 flipV="1">
            <a:off x="6249960" y="3570120"/>
            <a:ext cx="238320" cy="150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 flipV="1">
            <a:off x="6483240" y="3616200"/>
            <a:ext cx="1746360" cy="145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6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Distintos tipos de órganos sensori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26 Grupo"/>
          <p:cNvGrpSpPr/>
          <p:nvPr/>
        </p:nvGrpSpPr>
        <p:grpSpPr>
          <a:xfrm>
            <a:off x="3492360" y="1270080"/>
            <a:ext cx="2087640" cy="1081080"/>
            <a:chOff x="3492360" y="1270080"/>
            <a:chExt cx="2087640" cy="1081080"/>
          </a:xfrm>
        </p:grpSpPr>
        <p:sp>
          <p:nvSpPr>
            <p:cNvPr id="66" name="AutoShape 7"/>
            <p:cNvSpPr/>
            <p:nvPr/>
          </p:nvSpPr>
          <p:spPr>
            <a:xfrm>
              <a:off x="3492360" y="12700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3563640" y="1484280"/>
              <a:ext cx="194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ÓRGANOS SENSORI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19"/>
          <p:cNvSpPr/>
          <p:nvPr/>
        </p:nvSpPr>
        <p:spPr>
          <a:xfrm>
            <a:off x="2916360" y="522936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25 Grupo"/>
          <p:cNvGrpSpPr/>
          <p:nvPr/>
        </p:nvGrpSpPr>
        <p:grpSpPr>
          <a:xfrm>
            <a:off x="1908000" y="2349360"/>
            <a:ext cx="5257800" cy="1081080"/>
            <a:chOff x="1908000" y="2349360"/>
            <a:chExt cx="5257800" cy="1081080"/>
          </a:xfrm>
        </p:grpSpPr>
        <p:sp>
          <p:nvSpPr>
            <p:cNvPr id="70" name="Freeform 10"/>
            <p:cNvSpPr/>
            <p:nvPr/>
          </p:nvSpPr>
          <p:spPr>
            <a:xfrm>
              <a:off x="1908000" y="314172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1">
                  <a:moveTo>
                    <a:pt x="0" y="0"/>
                  </a:moveTo>
                  <a:lnTo>
                    <a:pt x="14601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90800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>
              <a:off x="457200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4572000" y="2349360"/>
              <a:ext cx="1440" cy="792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" h="2202">
                  <a:moveTo>
                    <a:pt x="0" y="0"/>
                  </a:moveTo>
                  <a:lnTo>
                    <a:pt x="0" y="2201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21"/>
            <p:cNvSpPr/>
            <p:nvPr/>
          </p:nvSpPr>
          <p:spPr>
            <a:xfrm>
              <a:off x="7164360" y="3141720"/>
              <a:ext cx="1440" cy="28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" h="803">
                  <a:moveTo>
                    <a:pt x="0" y="80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29 Grupo"/>
          <p:cNvGrpSpPr/>
          <p:nvPr/>
        </p:nvGrpSpPr>
        <p:grpSpPr>
          <a:xfrm>
            <a:off x="5580000" y="3357720"/>
            <a:ext cx="3419640" cy="1295280"/>
            <a:chOff x="5580000" y="3357720"/>
            <a:chExt cx="3419640" cy="1295280"/>
          </a:xfrm>
        </p:grpSpPr>
        <p:sp>
          <p:nvSpPr>
            <p:cNvPr id="76" name="AutoShape 20"/>
            <p:cNvSpPr/>
            <p:nvPr/>
          </p:nvSpPr>
          <p:spPr>
            <a:xfrm>
              <a:off x="6017040" y="3357720"/>
              <a:ext cx="2543400" cy="129528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5580000" y="3789360"/>
              <a:ext cx="34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QUIMI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27 Grupo"/>
          <p:cNvGrpSpPr/>
          <p:nvPr/>
        </p:nvGrpSpPr>
        <p:grpSpPr>
          <a:xfrm>
            <a:off x="539640" y="3357720"/>
            <a:ext cx="2737080" cy="1223640"/>
            <a:chOff x="539640" y="3357720"/>
            <a:chExt cx="2737080" cy="1223640"/>
          </a:xfrm>
        </p:grpSpPr>
        <p:sp>
          <p:nvSpPr>
            <p:cNvPr id="79" name="AutoShape 9"/>
            <p:cNvSpPr/>
            <p:nvPr/>
          </p:nvSpPr>
          <p:spPr>
            <a:xfrm>
              <a:off x="711000" y="3357720"/>
              <a:ext cx="2395800" cy="122364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539640" y="3756960"/>
              <a:ext cx="273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OT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28 Grupo"/>
          <p:cNvGrpSpPr/>
          <p:nvPr/>
        </p:nvGrpSpPr>
        <p:grpSpPr>
          <a:xfrm>
            <a:off x="3132000" y="3357720"/>
            <a:ext cx="2880000" cy="1223640"/>
            <a:chOff x="3132000" y="3357720"/>
            <a:chExt cx="2880000" cy="1223640"/>
          </a:xfrm>
        </p:grpSpPr>
        <p:sp>
          <p:nvSpPr>
            <p:cNvPr id="82" name="AutoShape 8">
              <a:hlinkClick r:id="rId2" action="ppaction://hlinksldjump"/>
            </p:cNvPr>
            <p:cNvSpPr/>
            <p:nvPr/>
          </p:nvSpPr>
          <p:spPr>
            <a:xfrm>
              <a:off x="3344400" y="3357720"/>
              <a:ext cx="2425680" cy="1223640"/>
            </a:xfrm>
            <a:prstGeom prst="roundRect">
              <a:avLst>
                <a:gd name="adj" fmla="val 16667"/>
              </a:avLst>
            </a:prstGeom>
            <a:solidFill>
              <a:srgbClr val="7575d1"/>
            </a:solidFill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6">
              <a:hlinkClick r:id="rId3" action="ppaction://hlinksldjump"/>
            </p:cNvPr>
            <p:cNvSpPr/>
            <p:nvPr/>
          </p:nvSpPr>
          <p:spPr>
            <a:xfrm>
              <a:off x="3132000" y="3789360"/>
              <a:ext cx="28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ECANORRECEPT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971640" y="141912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ienen células receptoras que captan un determinado estímulo y envían una señal al sistema nervioso, donde es interpretada como una sens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Órganos senso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1706400" y="2878200"/>
            <a:ext cx="6610680" cy="2351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4282920" y="486108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: Los ojos del gato captan la luz procedente del a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270828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: Los oídos del gato captan las vibraciones del canto del pája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5280" y="50878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Órganos sensoriales de un gato captando estímul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588000" y="443700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: Un pájaro canta (emite vibraciones) y la luz se refleja en é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V="1">
            <a:off x="7023240" y="3661920"/>
            <a:ext cx="30132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2103480" y="3044880"/>
            <a:ext cx="100656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 flipV="1">
            <a:off x="3489480" y="3963600"/>
            <a:ext cx="149040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0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6"/>
          <p:cNvSpPr/>
          <p:nvPr/>
        </p:nvSpPr>
        <p:spPr>
          <a:xfrm>
            <a:off x="971640" y="1557360"/>
            <a:ext cx="72723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s animales forman los oj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tan la luz y proporcionan la vi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situarse en la cab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Fotorrecep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852720" y="3429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1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7"/>
          <p:cNvSpPr/>
          <p:nvPr/>
        </p:nvSpPr>
        <p:spPr>
          <a:xfrm>
            <a:off x="971640" y="1419120"/>
            <a:ext cx="77770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ún su complejidad, distinguimos varios tipos de oj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mples. Los tienen muchos invertebrados. Solo detectan la presencia o ausencia de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mpuestos. Se dan en los artrópodos. Constan de miles de pequeñas unidades llamadas omatidios. Entre todos dan una visión en mosa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Tipos de ojo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515280" y="8101080"/>
            <a:ext cx="18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jo compuesto de un insec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669080" y="4284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mati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908000" y="4221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jo com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 flipH="1" flipV="1">
            <a:off x="6094440" y="4230720"/>
            <a:ext cx="159048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2906640" y="4410000"/>
            <a:ext cx="10429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933720" y="33764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jo si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57200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2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6"/>
          <p:cNvSpPr/>
          <p:nvPr/>
        </p:nvSpPr>
        <p:spPr>
          <a:xfrm>
            <a:off x="971640" y="14191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cámara. Los tienen algunos invertebrados, com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efalópodos, y casi todos los vertebrados. Su estructura se asemeja a una cámara de fotos y dan una imagen nítida del entor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Tipos de ojo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13080" cy="3311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6227640" y="530064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jo tipo cámara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37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Ojo en cám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032600" cy="2932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2771640" y="1393920"/>
            <a:ext cx="21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istalin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 como la lente de una cámara, enfocando los objet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5280" y="1971720"/>
            <a:ext cx="24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pil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ace las veces del diafragma de una cámara. Se abre o cierra para controlar la luz que entra al oj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948360" y="1268280"/>
            <a:ext cx="223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in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como el sensor de una cámara digital. Es la capa más interna del ojo y en ella se forma la imagen recibida en el ojo. Esta se forma del revés, pero el cerebro corrige esto e invierte la imag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1280" y="4614840"/>
            <a:ext cx="208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ri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disco muscular cuya función es abrir y cerrar la pupila. Da sus característicos colores al oj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300720" y="533412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ervio óptico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leva la información recibida por la retina al cerebr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236000" y="377028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óve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la zona de la retina con más densidad de con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2843280" y="4724280"/>
            <a:ext cx="208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lerótica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la capa más externa, de color blanco, salvo en la parte anterior donde se hace transparente y pasa a llamarse córne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859280" y="1052640"/>
            <a:ext cx="208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roide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a media del ojo, es de color rojo oscuro debido a que está lleno de capilares sanguíne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2624040" y="2570040"/>
            <a:ext cx="2560680" cy="127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3859200" y="2176560"/>
            <a:ext cx="1454040" cy="16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6016680" y="2049480"/>
            <a:ext cx="24768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H="1">
            <a:off x="6770160" y="2689200"/>
            <a:ext cx="220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 flipH="1" flipV="1">
            <a:off x="6927840" y="3835440"/>
            <a:ext cx="31104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6767640" y="4814640"/>
            <a:ext cx="72720" cy="54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4408560" y="4328640"/>
            <a:ext cx="5763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26"/>
          <p:cNvSpPr/>
          <p:nvPr/>
        </p:nvSpPr>
        <p:spPr>
          <a:xfrm flipV="1">
            <a:off x="2149560" y="4138560"/>
            <a:ext cx="30812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3168360" cy="31669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64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971640" y="1419120"/>
            <a:ext cx="72723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ún el estímulo que capten, se distinguen varios ti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Órganos de audición (oídos): Suelen ser orificios que captan vibraciones del aire o 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Órganos del equilibrio: Células sensibles a la gravedad que informan de la posición del cuer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ecanorreceptor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227640" y="56833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Oído 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26920" y="39844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ificio del oí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908000" y="60008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ificio del oí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187280" y="46339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ucturas que recogen las vib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4859280" y="4869000"/>
            <a:ext cx="1081080" cy="936360"/>
          </a:xfrm>
          <a:prstGeom prst="ellipse">
            <a:avLst/>
          </a:prstGeom>
          <a:noFill/>
          <a:ln w="25560">
            <a:solidFill>
              <a:srgbClr val="99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5"/>
          <p:cNvSpPr/>
          <p:nvPr/>
        </p:nvSpPr>
        <p:spPr>
          <a:xfrm flipV="1">
            <a:off x="2332080" y="3642840"/>
            <a:ext cx="173664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3365640" y="5601960"/>
            <a:ext cx="139860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2518920" y="5052960"/>
            <a:ext cx="2344680" cy="238320"/>
          </a:xfrm>
          <a:prstGeom prst="line">
            <a:avLst/>
          </a:prstGeom>
          <a:ln w="18000">
            <a:solidFill>
              <a:srgbClr val="99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180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6"/>
          <p:cNvSpPr/>
          <p:nvPr/>
        </p:nvSpPr>
        <p:spPr>
          <a:xfrm>
            <a:off x="971640" y="141912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ínea lateral: Se da en peces. Detectan vibraciones y movimientos en 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Piel: Tiene células receptoras de la presión, y proporciona el t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Mecanorreceptore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5435640" y="285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Línea lateral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6300720" y="378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lula recept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042920" y="3941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97964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tintos tipos de órganos sens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1517760" y="4197240"/>
            <a:ext cx="1527120" cy="12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2239920" y="3735360"/>
            <a:ext cx="1189080" cy="14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8"/>
          <p:cNvSpPr/>
          <p:nvPr/>
        </p:nvSpPr>
        <p:spPr>
          <a:xfrm flipH="1">
            <a:off x="5582880" y="4106880"/>
            <a:ext cx="13446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4:22Z</dcterms:modified>
  <cp:revision>31</cp:revision>
  <dc:subject/>
  <dc:title>Presentación de PowerPoint</dc:title>
</cp:coreProperties>
</file>